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B4D-1F43-4795-A658-9A543534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40C-0756-4609-BD4D-0304984B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246-9BF9-4A63-BA0A-3342CFB4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ADF-CD55-4DC2-BE74-E2841099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984-A1EF-4D96-A6F8-D681F517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F22-84FE-4140-8E34-22BCBEEF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9D7-8752-4102-B293-05090C06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F93-F870-4274-A225-BD639B33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79E-4E66-401E-95D0-F08ECFB1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B06-13C5-452C-A180-5E76F0DE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783-2A36-4570-B832-C8479F2D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D09-DC16-4DC3-BD4A-68E9B3D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C0AF-5AFB-4129-882F-A677EB32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isoner of War- Bataan Death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: Shane, Tyler, Kirk, and Mica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LeonardGSiffleet"/>
          <p:cNvPicPr/>
          <p:nvPr/>
        </p:nvPicPr>
        <p:blipFill>
          <a:blip r:embed="rId1"/>
          <a:stretch/>
        </p:blipFill>
        <p:spPr>
          <a:xfrm>
            <a:off x="2362320" y="0"/>
            <a:ext cx="441648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819520" y="59421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soner of war being executed in the Bataan Death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en.wikipilipinas.org/images/thumb/5/5a/Route_map_of_BataanDeathMarch.jpg/300px-Route_map_of_BataanDeathMarch.jpg"/>
          <p:cNvPicPr/>
          <p:nvPr/>
        </p:nvPicPr>
        <p:blipFill>
          <a:blip r:embed="rId1"/>
          <a:stretch/>
        </p:blipFill>
        <p:spPr>
          <a:xfrm>
            <a:off x="685800" y="2819520"/>
            <a:ext cx="2857680" cy="378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batch2006.com/imag_orion/000_batan_map.jpg"/>
          <p:cNvPicPr/>
          <p:nvPr/>
        </p:nvPicPr>
        <p:blipFill>
          <a:blip r:embed="rId2"/>
          <a:stretch/>
        </p:blipFill>
        <p:spPr>
          <a:xfrm>
            <a:off x="4648320" y="342900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990720" y="8380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of the 70 mile march from Marveles to San Fern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2130"/>
          <p:cNvPicPr/>
          <p:nvPr/>
        </p:nvPicPr>
        <p:blipFill>
          <a:blip r:embed="rId1"/>
          <a:stretch/>
        </p:blipFill>
        <p:spPr>
          <a:xfrm>
            <a:off x="1143000" y="380880"/>
            <a:ext cx="6705720" cy="5800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066680" y="6216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ied prisoners of war with their hand tied behind their backs during the Bataan Death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fourthmarinesband.com/bataan_march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19920" cy="4087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523880" y="55627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ied soldiers during the Bataan Death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enizaBataanDeathMarch"/>
          <p:cNvPicPr/>
          <p:nvPr/>
        </p:nvPicPr>
        <p:blipFill>
          <a:blip r:embed="rId1"/>
          <a:stretch/>
        </p:blipFill>
        <p:spPr>
          <a:xfrm>
            <a:off x="2057400" y="685800"/>
            <a:ext cx="4898880" cy="5324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2133720" y="6172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re allied prisoners being escorted by Japanese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daws3"/>
          <p:cNvPicPr/>
          <p:nvPr/>
        </p:nvPicPr>
        <p:blipFill>
          <a:blip r:embed="rId1"/>
          <a:stretch/>
        </p:blipFill>
        <p:spPr>
          <a:xfrm>
            <a:off x="765000" y="274680"/>
            <a:ext cx="7612200" cy="5851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2057400" y="6248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ied prisoners on their way to Camp O’D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bataan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4000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219320" y="5334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ied prisoners were forced to carry all of Japan’s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large_american-troops-surrender"/>
          <p:cNvPicPr/>
          <p:nvPr/>
        </p:nvPicPr>
        <p:blipFill>
          <a:blip r:embed="rId1"/>
          <a:stretch/>
        </p:blipFill>
        <p:spPr>
          <a:xfrm>
            <a:off x="1066680" y="762120"/>
            <a:ext cx="6838920" cy="4951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371600" y="6019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erican soldiers being forced to give up their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death"/>
          <p:cNvPicPr/>
          <p:nvPr/>
        </p:nvPicPr>
        <p:blipFill>
          <a:blip r:embed="rId1"/>
          <a:stretch/>
        </p:blipFill>
        <p:spPr>
          <a:xfrm>
            <a:off x="1303200" y="274680"/>
            <a:ext cx="6535800" cy="5851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752480" y="6216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 allied soldiers laying on the ground during the Bataan Death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3:01:39Z</dcterms:created>
  <dc:creator>Information Technology</dc:creator>
  <dc:description/>
  <dc:language>en-US</dc:language>
  <cp:lastModifiedBy>Information Technology</cp:lastModifiedBy>
  <dcterms:modified xsi:type="dcterms:W3CDTF">2010-02-18T13:14:05Z</dcterms:modified>
  <cp:revision>7</cp:revision>
  <dc:subject/>
  <dc:title>Prisoner of War</dc:title>
</cp:coreProperties>
</file>